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1EF-A652-4680-B9C8-AC2344FAA5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C83A-28D0-40FD-AE04-57BD1ED147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702-222A-4F9E-BCF4-E386883A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C48-365A-4FDE-80FC-8DCB32F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45C-77DD-46C8-B4B9-3A44EE37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FCD-37F7-4789-9843-A5F8334B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D16-A504-40BA-A780-F90D6AA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626E-BAB9-4212-A81C-78CC124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3F85-9CB4-4C54-A7FA-B033CA4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FF62-94C5-4ED9-9F64-E5F55A2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0EF-D5DA-4D54-BF8C-CBF5FA54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B19-8546-46D4-9467-98BA574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5DAE-2924-493B-997E-9A23C81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168-5579-4918-B8A9-3794DFC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E00D-AD87-47AF-B36B-E4D6229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4D2-B07D-4C3D-BEF7-9D4055C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F3F-F3A6-4411-8C16-8EA219A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AA9-241A-46EC-B5A1-108962F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A410-4217-4041-9BAF-021D42BB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63BA-7000-48DE-B1AA-7F20799A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DEB2-85C8-4534-B03D-FED8265C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1538-3950-41C8-A4EF-2B0A901A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87F9-01A8-44C8-A0F0-BA13278A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B18D-58D0-4D99-92FF-F3546A61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041-A901-4DC7-B65A-755AFDF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88D3-3E92-4FD2-AF7C-6C599CC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E828-C2FA-415E-A9C2-776044F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004B-6416-44DE-A244-616ECA5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7DC2-74ED-41E4-A4A8-81C37E7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8FE8-E852-40B6-8DEE-A2EA37F5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7F8B-B9DB-42CF-84C7-2D9CA567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D771-847A-4F17-A782-7F3F67CF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034C-3BB8-4977-B903-C468ABDE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BE1E-B360-4E68-A800-366C629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5A62-39EB-44C7-9CB9-DC795689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B39-0BF2-427A-97D6-D667F74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47E6-08D1-4C6D-A511-00646BF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667B-8BA3-4936-8E91-4D6C01D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3452-5B65-4527-AE33-EFDAB562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44D4-0465-48CB-9CBA-14B7F16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ED36-52B2-4731-85E1-C09838B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0A8D-35C3-4441-A9A4-18B18E3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609B-8D43-4E6D-BF4A-3155E66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6D92-B9DE-4053-AF3D-4939052A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0823-921E-4588-A9DE-311B8D7C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E83-9358-4B87-8FBC-66194964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ABA-ECCC-470F-9F98-1AC5DC52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74C-D6A2-456C-BDCB-B6E67CF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DB6-BD7F-42B5-A174-2E221B5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3EA-D111-4B8B-BF14-16411D4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D64-A083-45BA-AB88-6585D2067B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8AC-3A37-4F57-A5EB-B80B16D4A4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B7E-658E-44F4-A01F-D9C13AC893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0B0-0A65-4B0F-84E9-43F7B354DD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ikipedia.ru/" TargetMode="External"/><Relationship Id="rId2" Type="http://schemas.openxmlformats.org/officeDocument/2006/relationships/hyperlink" Target="http://www.images.google.ru/" TargetMode="External"/><Relationship Id="rId3" Type="http://schemas.openxmlformats.org/officeDocument/2006/relationships/hyperlink" Target="http://www.bing.r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9567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Атомные электростанции или угольные – </a:t>
            </a:r>
            <a:br>
              <a:rPr sz="6000"/>
            </a:br>
            <a:r>
              <a:rPr b="1" lang="ru-RU" sz="6000" spc="-1" strike="noStrike">
                <a:solidFill>
                  <a:srgbClr val="f63838"/>
                </a:solidFill>
                <a:latin typeface="Arial"/>
              </a:rPr>
              <a:t>что лучше?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5661000"/>
            <a:ext cx="5796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 231 Шибанова Н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99680" y="571320"/>
            <a:ext cx="807732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ольшая площадь под АЭ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тсутствии утечек – почти никакого загрязнения атмосф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ительно независима от местоположения сыр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Tahoma"/>
              </a:rPr>
              <a:t>Недостатки атомных станц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74600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блучённое топли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асно, требует сложных и дорогих мер по переработке и хран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телен режим работы с переменной мощностью для реакторов, работающих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пловых нейтрона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91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аботе АЭС в атмосферу выбрасывается некоторое количество ионизированного газа, однако обычная тепловая электростанция вместе с дымом выводит ещё большее количество радиационных выбросов, из-за естественного содержания радиоактивных элементов в каменном уг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БЕЛОЯРСКАЯ АТОМНАЯ ЭЛЕКТРОСТАНЦИЯ. Урал"/>
          <p:cNvPicPr/>
          <p:nvPr/>
        </p:nvPicPr>
        <p:blipFill>
          <a:blip r:embed="rId1"/>
          <a:stretch/>
        </p:blipFill>
        <p:spPr>
          <a:xfrm>
            <a:off x="2124000" y="3213000"/>
            <a:ext cx="4456080" cy="3368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ое строительство и ещё дороже размонтиров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уются радиоактивные отходы (глобальная проблем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точки зрения статистики и страхования крупные аварии крайне маловероятны, однако последствия такого инцидента крайне тяжёл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96316223" descr="96316223"/>
          <p:cNvPicPr/>
          <p:nvPr/>
        </p:nvPicPr>
        <p:blipFill>
          <a:blip r:embed="rId1"/>
          <a:stretch/>
        </p:blipFill>
        <p:spPr>
          <a:xfrm>
            <a:off x="2987640" y="2637000"/>
            <a:ext cx="5832360" cy="3892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324000" y="344232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йчас Чернобыль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лядит так с высоты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тичьего полета. А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ьше здесь было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ого людей.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8748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арте 1979 г. произошла самая тяжёлая до Чернобыля авария на американской АЭС. После этого случая американцы не ввели в строй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ни одного реактора!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веции принято решение о постепенном закрытии АЭС. Лишь Великобритания, Франция и Россия планируют строительство новых АЭС, несмотря на активное сопротивление общественности. Во Франции 74% энергии – энергия АЭС, ежегодно 200 тыс школьников ходят туда на экскур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ырьём для АЭС являются уран и торий – их запасов в земной коре хватит на 50 тыс. лет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морской воде урана в 1000 раз больше, чем в земной кор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 не стоит так осторожничать???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ть «пороховой погреб» в стране с не очень развитой технологией или социальной нестабильностью –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ЭТ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БЕЗУМ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6436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78feb"/>
                </a:solidFill>
                <a:latin typeface="Tahoma"/>
              </a:rPr>
              <a:t>Перспекти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мотря на указанные недостатки, атомная энергия представляется самой перспективной. Альтернативные способы получения энергии, за счёт энергии приливов, ветра, Солнца, геотермальных источников и др. на данный момент отличаются невысоким уровнем добываемой энергии и её низкой концентрацией. К тому же данные виды получения энергии несут в себе собственные риски для экологии туризма («грязное» производство фотоэлектрических элементов, опасность ветряных станций для птиц, изменение динамики волн. В настоящее время разрабатываются международные проекты ядерных реакторов нового поколения, которые позволяют повысить безопасность и увеличить КПД АЭС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ША и Япония ведут разработки мини-АЭС, с помощью порядка10-20 МВт для целей тепло- и электроснабжения отдельных производств, жилых комплексов, а в перспективе и индивидуальных домов. С уменьшением мощности установки расчёт предполагаемый масштаб производства. Малогабаритные реакторы создаются с использованием безопасных технологий, многогратно уменьшающих возможность утечки ядерного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50920" y="404640"/>
            <a:ext cx="8497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ссия приступила к строительству первой в мире плавающей АЭС, позволяющей решить проблему нехватки энергии в отдалённых прибрежных районах страны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Площадки строительства АЭС, как правило, не допускается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онах активного кар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тяжёлых оползней и селевых пото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возможного действия снежных лави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заболоченных и переувлажнённых с постоянным притоком напорных грунтовых в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онах крупных провалов в результате горных выработ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, подверженных воздействию катастрофических явлений, как цунами и т.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йонах залегания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7"/>
          <p:cNvSpPr/>
          <p:nvPr/>
        </p:nvSpPr>
        <p:spPr>
          <a:xfrm>
            <a:off x="684360" y="620640"/>
            <a:ext cx="3024000" cy="115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611280" y="2781360"/>
            <a:ext cx="298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делать вывод о том какой из видов энергии лучше или опаснее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68360" y="2708280"/>
            <a:ext cx="309564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ть вывод о том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й из видов энергии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учше или опаснее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2050920" y="1773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5364000" y="476280"/>
            <a:ext cx="2592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3924360" y="2708280"/>
            <a:ext cx="237636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ить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асность каждой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видов 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станций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732720" y="2708280"/>
            <a:ext cx="208728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ить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ьтернативы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томной энергии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гольной</a:t>
            </a:r>
            <a:endParaRPr b="0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6" name="Line 17"/>
          <p:cNvSpPr/>
          <p:nvPr/>
        </p:nvSpPr>
        <p:spPr>
          <a:xfrm flipH="1">
            <a:off x="5003640" y="1628640"/>
            <a:ext cx="1656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659640" y="1628640"/>
            <a:ext cx="1152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72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Атомные станции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настоящее время в Российской Федерации на 10 действующих АЭС эксплуатируется 31 энергоблок общей мощностью 23243 МВт, из них 15 реакторов с водой под давлением; 15 канальных кипящих реакторов, 1 на быстрых нейтрон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прос 2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23640" y="126792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Достоинства и недостатки тепловых электростанций, работающих на угл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7" descr="C:\Users\user\Desktop\yatağan 1.jpg"/>
          <p:cNvPicPr/>
          <p:nvPr/>
        </p:nvPicPr>
        <p:blipFill>
          <a:blip r:embed="rId1"/>
          <a:stretch/>
        </p:blipFill>
        <p:spPr>
          <a:xfrm>
            <a:off x="2143080" y="3429000"/>
            <a:ext cx="47116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24000" y="422100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80% всей электроэнергии в нашей стране вырабатывается на ТЭС на всех видах топлива (природног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6" descr="oblast_1182506171"/>
          <p:cNvPicPr/>
          <p:nvPr/>
        </p:nvPicPr>
        <p:blipFill>
          <a:blip r:embed="rId1"/>
          <a:stretch/>
        </p:blipFill>
        <p:spPr>
          <a:xfrm>
            <a:off x="1763640" y="189000"/>
            <a:ext cx="56167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стоинства ТЭ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танции используется небольшая площад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удельная теплота сгорания уг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ота хранения угля, пригодность к непосредственному использованию уг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Tahoma"/>
              </a:rPr>
              <a:t>Недостатки ТЭ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21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 загрязняют атмосферу сернистыми и азотными соединениями, углекислым газом, создают парниковый эффект, кисл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жди и т.д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5" descr="ТЭС рис"/>
          <p:cNvPicPr/>
          <p:nvPr/>
        </p:nvPicPr>
        <p:blipFill>
          <a:blip r:embed="rId1"/>
          <a:stretch/>
        </p:blipFill>
        <p:spPr>
          <a:xfrm>
            <a:off x="4211640" y="3933720"/>
            <a:ext cx="3456000" cy="2662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term-4"/>
          <p:cNvPicPr/>
          <p:nvPr/>
        </p:nvPicPr>
        <p:blipFill>
          <a:blip r:embed="rId2"/>
          <a:stretch/>
        </p:blipFill>
        <p:spPr>
          <a:xfrm>
            <a:off x="6156360" y="1557360"/>
            <a:ext cx="25923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уют большое количество площадей для добычи угля, рельеф портится шах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5" descr="thumbnail"/>
          <p:cNvPicPr/>
          <p:nvPr/>
        </p:nvPicPr>
        <p:blipFill>
          <a:blip r:embed="rId1"/>
          <a:stretch/>
        </p:blipFill>
        <p:spPr>
          <a:xfrm>
            <a:off x="5508720" y="25653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thumbnail1"/>
          <p:cNvPicPr/>
          <p:nvPr/>
        </p:nvPicPr>
        <p:blipFill>
          <a:blip r:embed="rId2"/>
          <a:stretch/>
        </p:blipFill>
        <p:spPr>
          <a:xfrm>
            <a:off x="468360" y="3182760"/>
            <a:ext cx="446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охлаждающей ТЭС в ближайшие водоёмы сбрасывается большое количество тепла. Это приводит к повышению температуры водоё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4" descr="santral1"/>
          <p:cNvPicPr/>
          <p:nvPr/>
        </p:nvPicPr>
        <p:blipFill>
          <a:blip r:embed="rId1"/>
          <a:stretch/>
        </p:blipFill>
        <p:spPr>
          <a:xfrm>
            <a:off x="2340000" y="3500280"/>
            <a:ext cx="4032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66"/>
                </a:solidFill>
                <a:uFillTx/>
                <a:latin typeface="Tahoma"/>
              </a:rPr>
              <a:t>ВЫВО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280" y="1844280"/>
            <a:ext cx="820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так, мы рассмотрели два типа электростанций. И АЭС и ТЭС вредны как для экологии, так и для прир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чники информ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wikipedia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images.googl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bing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прос 1:</a:t>
            </a:r>
            <a:br>
              <a:rPr sz="4000"/>
            </a:br>
            <a:br>
              <a:rPr sz="4000"/>
            </a:b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Tahoma"/>
              </a:rPr>
              <a:t>Достоинства и </a:t>
            </a:r>
            <a:br>
              <a:rPr sz="4800"/>
            </a:br>
            <a:r>
              <a:rPr b="1" i="1" lang="ru-RU" sz="4800" spc="-1" strike="noStrike" u="sng">
                <a:solidFill>
                  <a:srgbClr val="ffffcc"/>
                </a:solidFill>
                <a:uFillTx/>
                <a:latin typeface="Tahoma"/>
              </a:rPr>
              <a:t>недостатки атомных электростанций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9" name="Picture 6" descr="300px-Centrale-nucleaire-civaux"/>
          <p:cNvPicPr/>
          <p:nvPr/>
        </p:nvPicPr>
        <p:blipFill>
          <a:blip r:embed="rId1"/>
          <a:stretch/>
        </p:blipFill>
        <p:spPr>
          <a:xfrm>
            <a:off x="4211640" y="3973680"/>
            <a:ext cx="4513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мире существует около 420 атомных реакторов. У нас в стране 14% всей энергии вырабатывается АЭС. Первая в мире АЭС была пущена в 1954 году в СССР в г. Обнинске.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1" name="Picture 5" descr="БИЛИБИНСКАЯ АТОМНАЯ ТЕПЛО-ЭЛЕКТРОЦЕНТРАЛЬ. Магаданская область. Машинный зал"/>
          <p:cNvPicPr/>
          <p:nvPr/>
        </p:nvPicPr>
        <p:blipFill>
          <a:blip r:embed="rId1"/>
          <a:stretch/>
        </p:blipFill>
        <p:spPr>
          <a:xfrm>
            <a:off x="3276720" y="2997360"/>
            <a:ext cx="53924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361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. Балаков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Калинин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3.Коль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4.Нововоронеж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5.Кур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6.Ленинград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7.Смолен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8.Белоярска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9.Билибинская (на Чукотке, самая маленькая)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0.Обнинская – маленькая, существует как экспериментальная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69236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</a:rPr>
              <a:t>Сейчас у нас их 9:</a:t>
            </a:r>
            <a:br>
              <a:rPr sz="3600"/>
            </a:b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олько в черте Москвы 8 работающих реакторов, 7 из них – в институте Курчат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5" name="Picture 8" descr="Атомная электростанция"/>
          <p:cNvPicPr/>
          <p:nvPr/>
        </p:nvPicPr>
        <p:blipFill>
          <a:blip r:embed="rId1"/>
          <a:stretch/>
        </p:blipFill>
        <p:spPr>
          <a:xfrm>
            <a:off x="2050920" y="2924280"/>
            <a:ext cx="4680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Tahoma"/>
              </a:rPr>
              <a:t>Достоинства атомных станц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ольшой объём используемого топлива и возможность его повторного использования после переработки (для сравнения, одна только Троицкая ГРЭС мощностью 2000 МВт сжигает за сутки два железнодорожных состава угл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180px-Yearly_fuel_of_a_nuclear_power_plant"/>
          <p:cNvPicPr/>
          <p:nvPr/>
        </p:nvPicPr>
        <p:blipFill>
          <a:blip r:embed="rId1"/>
          <a:stretch/>
        </p:blipFill>
        <p:spPr>
          <a:xfrm>
            <a:off x="395280" y="692280"/>
            <a:ext cx="5043600" cy="5616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5651640" y="1467360"/>
            <a:ext cx="34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ый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топлива, используемого за год одним реактором типа ВВЭР-1000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мощность: 1000 – 1600 МВт на энергобл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ая себестоимость энергии, особенно теплов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размещения в регионах, расположенных вдали от крупных водоэнергетических ресурсов, крупных месторождений угля, в местах, где ограничены возможности для использования солнечной или ветряной электроэнергетик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4:00:04Z</dcterms:created>
  <dc:creator>Kirill</dc:creator>
  <dc:description/>
  <dc:language>en-US</dc:language>
  <cp:lastModifiedBy>Данилов</cp:lastModifiedBy>
  <dcterms:modified xsi:type="dcterms:W3CDTF">2009-12-20T21:44:30Z</dcterms:modified>
  <cp:revision>26</cp:revision>
  <dc:subject/>
  <dc:title>Атомные электростанции или угольные – что лучше?</dc:title>
</cp:coreProperties>
</file>